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41A2-26E2-4FBC-BBCA-29996F1E60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я. Многообразие живых организм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5152-4DAC-40EF-82BF-18D1AD0E8C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гменты и пласт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B0CE-1653-4AB9-8ED2-9128116DAF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Аукс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адают высокой физиологической активностью («Гетероауксин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рост клетки в фазах раст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т рост клеток кам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авливают взаимодействие отдель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коррелятив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 влияет на скорость созревания пл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Гиббереллин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товые вещества растений («Завяз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C78F-932A-4A69-80D7-A15CEF212C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итогормоны регулируют многие процессы жизнедеятельности раст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3789-8844-4E1F-9BDC-7A1A9F1639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Целлюлоза – основ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C7E0-8192-4D7D-A59A-72A58CE0EC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 органических веществ: аминокислот, белков, углеводов, дубильных веще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ённые неорганически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ург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пряжение клеточной ст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92B7-75D6-48B7-8A54-514533BD29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2C19-B63C-43C0-B0E6-E79990B08D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знаки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аличие в клетках пиг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деление растительных горм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летки окружены клеточной стенкой, образованной целлюл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бязательный продукт обмена – 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7236-BEA7-40CE-8EFD-CB56172B59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3396-8213-4396-93C1-78492265BB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9BCA-1084-4E4B-A43F-E65381C1FA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D0E7-EE87-4681-B84A-DA97EBB57C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м мире насчитывается более 350 тыс. видов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оставляют около 95% от всей </a:t>
            </a: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биома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Фл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овокупность всех растений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CC8E-D7E9-47EE-A5FC-5317B046A9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з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до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с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х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лаун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воще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поротник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крыт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6DF7-B628-4856-90FE-028B07C488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4EC0-0CC7-4CDC-BADF-26A6E214F4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астения –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авт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образуют органическую биомассу (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55E-71B5-47D9-9B6F-B8E162732C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г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AB21-4FFE-444B-8C12-F85E91E5D6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A2E-932C-420E-8535-4FE4A788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744-1D7B-4344-8DC9-0BC04CCC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D77-F752-4DE5-AADF-24D790C3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071-143C-40F8-BE39-DB107421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7B5C-67DE-4632-90C2-23F38E3E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F3AD-02BF-4FDB-A68F-B1D8AEBC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F1E9-17AF-4B0E-8A7A-EF5DB25A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F055-F6F8-4C3F-B546-8499E9A5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521A-4094-41CE-A335-F2B0B8F2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01D4-FFA5-410A-B8BE-11B2689B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234E-6B66-4266-A470-4F21DB2D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AE0-857E-4047-BC28-38CD43A2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843B-65FF-469D-B5F7-9720D765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7FDE-148B-40D9-9CE4-32C59B44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F990-95FE-4A47-A0D2-3B4F8CD6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F3B5-02F9-4235-843D-C4AFA6F6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C042-597A-4880-80DE-7F106411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992-9616-4F8C-A1E4-647B0200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A05-CC8C-4CC5-B488-FF2B54D6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5E0-1ACB-488C-A737-2826DCCA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473-476D-44CE-B5D5-5C13599A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110-78E6-47C3-8EE0-6BCC5AB2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A47-009F-40F1-B198-7434D224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F45-78DC-4B62-99BE-E888BEE9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F28E-95E7-44CA-8D32-AB577C846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8460-0B8B-455A-A0F6-5489868AED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792468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Биология. Многообразие живых организмов.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7 класс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дел №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арство Раст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90920" y="4648320"/>
            <a:ext cx="4495680" cy="1600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10-2011 учебный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ак Ольг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игменты и пластид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3.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562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5000"/>
                </a:solidFill>
                <a:latin typeface="Arial"/>
              </a:rPr>
              <a:t>Аукси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ладают высокой физиологической активностью («Гетероауксин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ияют на рост клетки в фазах растя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ируют рост клеток камб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славливают взаимодействие отдельных орга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ируют коррелятивный 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лен влияет на скорость созревания пл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Гиббереллин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стовые вещества растений («Завязь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3114720" cy="20764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Фитогормоны регулируют многие процессы жизнедеятельности растен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860560" cy="358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4.Целлюлоза – основа клеточной стен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36960" cy="4448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4800600" y="5257800"/>
            <a:ext cx="4114800" cy="9907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люлоза – это основа древес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5.Клеточный со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 органических веществ: аминокислот, белков, углеводов, дубильных веществ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ённые неорганически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Тург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пряжение клеточной сте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637000" cy="3834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4648320" y="6248520"/>
            <a:ext cx="4038480" cy="3808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ьице закрытое и открыт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6.Неограниченный рост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4419720" y="6019920"/>
            <a:ext cx="4419360" cy="5331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гантские секвой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8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657600" cy="2911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0"/>
          <p:cNvSpPr/>
          <p:nvPr/>
        </p:nvSpPr>
        <p:spPr>
          <a:xfrm>
            <a:off x="457200" y="5181480"/>
            <a:ext cx="3429000" cy="6858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я Ре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Основные признаки растений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Фотосинт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аличие в клетках пиг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Выделение растительных горм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Клетки окружены клеточной стенкой, образованной целлюлоз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Обязательный продукт обмена – клеточный с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еограниченный р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2971800" cy="221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97964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533520" y="4017960"/>
            <a:ext cx="2666880" cy="2101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85800" y="3352680"/>
            <a:ext cx="236232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6324480"/>
            <a:ext cx="228600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п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800600" y="2666880"/>
            <a:ext cx="16765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рё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0" descr="кролик"/>
          <p:cNvPicPr/>
          <p:nvPr/>
        </p:nvPicPr>
        <p:blipFill>
          <a:blip r:embed="rId4"/>
          <a:stretch/>
        </p:blipFill>
        <p:spPr>
          <a:xfrm>
            <a:off x="4191120" y="3962520"/>
            <a:ext cx="3047760" cy="2457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7315200" y="5029200"/>
            <a:ext cx="1600200" cy="5335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39544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57200" y="4419720"/>
            <a:ext cx="198108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53080" y="4419720"/>
            <a:ext cx="20574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м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24080" y="6095880"/>
            <a:ext cx="25909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поро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щая характеристика растен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мире насчитывается более 350 тыс. видов раст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 составляют около 95% от всей </a:t>
            </a: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биомасс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Фло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вокупность всех растений нашей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247920" cy="3217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Низ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до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57440" y="19047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Выс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х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лаун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воще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апоротник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гол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окрыт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2819520" cy="183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биом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53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27600" cy="2438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1. фотосинтез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46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растения – 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автотроф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ения образуют органическую биомассу (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продуцен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вишня№2"/>
          <p:cNvPicPr/>
          <p:nvPr/>
        </p:nvPicPr>
        <p:blipFill>
          <a:blip r:embed="rId1"/>
          <a:stretch/>
        </p:blipFill>
        <p:spPr>
          <a:xfrm>
            <a:off x="4952880" y="1828800"/>
            <a:ext cx="3927600" cy="2946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4952880" y="5105520"/>
            <a:ext cx="38862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ды виш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2743200" cy="2065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380880" y="6248520"/>
            <a:ext cx="4191120" cy="3045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дровые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2. пигмент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152280" y="47242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80880" y="4724280"/>
            <a:ext cx="3581640" cy="1524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лёный пигмент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лороф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419720" y="5029200"/>
            <a:ext cx="4495680" cy="13716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нжевые, желтые, 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отино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1" descr="помидор"/>
          <p:cNvPicPr/>
          <p:nvPr/>
        </p:nvPicPr>
        <p:blipFill>
          <a:blip r:embed="rId2"/>
          <a:stretch/>
        </p:blipFill>
        <p:spPr>
          <a:xfrm>
            <a:off x="6553080" y="114300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перец"/>
          <p:cNvPicPr/>
          <p:nvPr/>
        </p:nvPicPr>
        <p:blipFill>
          <a:blip r:embed="rId3"/>
          <a:stretch/>
        </p:blipFill>
        <p:spPr>
          <a:xfrm>
            <a:off x="4648320" y="2971800"/>
            <a:ext cx="2514600" cy="17510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4:3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